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11740"/>
        <c:axId val="29776090"/>
      </c:barChart>
      <c:catAx>
        <c:axId val="78511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76090"/>
        <c:crosses val="autoZero"/>
        <c:auto val="1"/>
        <c:lblAlgn val="ctr"/>
        <c:lblOffset val="100"/>
        <c:noMultiLvlLbl val="0"/>
      </c:catAx>
      <c:valAx>
        <c:axId val="29776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1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592-8FE6-4994-BCA7-60683BD1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0AE-03CC-46E5-ADBD-BE63ADB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7FF1-EDE8-465F-8E8D-CCF44DA6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583-2D26-4849-8FD7-17198E14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D4B-B952-4A34-8324-2D727F8B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B96-9B82-40F2-8BAC-4247B632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1D1-2D23-483E-9C34-F15001B4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948-7B32-4045-9EF1-B216C918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4C6-B3BF-4301-9161-A691F4B8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30F4-352D-4026-848D-CE198F6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E0F-68F1-433B-8E39-CA3436D6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FA2-C3F8-4045-9EB3-728AE513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980E9-F340-4F84-A60F-339400A560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