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34134"/>
        <c:axId val="71815310"/>
      </c:barChart>
      <c:catAx>
        <c:axId val="31134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15310"/>
        <c:crosses val="autoZero"/>
        <c:auto val="1"/>
        <c:lblAlgn val="ctr"/>
        <c:lblOffset val="100"/>
        <c:noMultiLvlLbl val="0"/>
      </c:catAx>
      <c:valAx>
        <c:axId val="71815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4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C3D-24BB-4412-B16A-2E4A6862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A9C-EC49-404B-B55D-7E054BB6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DCF-7006-472C-8508-AB44FF4D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8725-A35C-4F95-98F5-91A00355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00A-19C8-47C8-B1CD-44536705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F34-CA1E-4D38-B3D3-12F35AF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5A2-0A2A-4BAB-9115-0D50D573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F8F-76CA-42A0-A29B-4CAC2678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E5B-B2D0-4448-B52D-962C4759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C12-C211-4035-8DC0-B053AE06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AFD-CD4A-4DD3-9E02-7913955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709-A6DF-4795-9331-42DD144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B7828-2068-445B-9148-6F8A29E95B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