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3" name="AutoShape 1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 type="dt" idx="7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 type="ftr" idx="8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 type="sldNum" idx="9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DEF79D-8F6A-40B4-97D6-CE6CAD4C27E1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89BFE87-F4E3-4ED6-8AA8-FAFBFD133481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75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2352F1A-2045-4380-9EEE-939647F37B9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78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F6320EE-A282-42F0-945A-9051545FE56D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1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94DC857D-BDCA-48E5-9931-6BBF6BC661BA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4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056D6DE-1535-4D87-915E-8EFEC106524F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6" name="PlaceHolder 1"/>
          <p:cNvSpPr>
            <a:spLocks noGrp="1"/>
          </p:cNvSpPr>
          <p:nvPr>
            <p:ph type="sldImg"/>
          </p:nvPr>
        </p:nvSpPr>
        <p:spPr>
          <a:xfrm>
            <a:off x="1371600" y="763560"/>
            <a:ext cx="5029200" cy="3772080"/>
          </a:xfrm>
          <a:prstGeom prst="rect">
            <a:avLst/>
          </a:prstGeom>
          <a:ln w="0">
            <a:noFill/>
          </a:ln>
        </p:spPr>
      </p:sp>
      <p:sp>
        <p:nvSpPr>
          <p:cNvPr id="187" name="Text Box 2"/>
          <p:cNvSpPr/>
          <p:nvPr/>
        </p:nvSpPr>
        <p:spPr>
          <a:xfrm>
            <a:off x="777960" y="4776840"/>
            <a:ext cx="621828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E8A73DE-F17E-46A8-9DD8-1A564A3AFBC9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9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0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537F298D-6A26-468C-8F08-04A027C2AF97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2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3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69F5A30-B576-463D-B7D4-75B966507FFC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5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6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Rectangle 7"/>
          <p:cNvSpPr/>
          <p:nvPr/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b">
            <a:noAutofit/>
          </a:bodyPr>
          <a:p>
            <a:pPr algn="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D434EBCD-E0C7-4ADA-9C06-DADC7D9B3D23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AR PL UMing HK"/>
              </a:rPr>
              <a:t>&lt;number&gt;</a:t>
            </a:fld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8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4920" cy="4008240"/>
          </a:xfrm>
          <a:prstGeom prst="rect">
            <a:avLst/>
          </a:prstGeom>
          <a:ln w="0">
            <a:noFill/>
          </a:ln>
        </p:spPr>
      </p:sp>
      <p:sp>
        <p:nvSpPr>
          <p:cNvPr id="199" name="Text Box 2"/>
          <p:cNvSpPr/>
          <p:nvPr/>
        </p:nvSpPr>
        <p:spPr>
          <a:xfrm>
            <a:off x="75564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40BCE2-ED62-43BE-A3F6-41D6F3F07D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0A6ECE-2197-4CC6-B074-9F26C9701E6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DC8A61-8C9E-4C29-A613-E2140FF28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3C07D0-124A-4D01-8EFB-03A12B91C9F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B01105A-C3E8-4D17-9352-AF59F51E15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4EA5-9350-4EC7-8514-BC845CD0753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9B70F0-B574-48A2-99B0-C6C14964E1A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FE53FB-0601-4284-AACB-55F74989BA0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1A948F0-E240-484F-87ED-1805D79C55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B25D8A1-A0D2-474D-BED3-5DC0F2BAFB8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2889E4-E1B5-4E38-AE58-BE87ABB87B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6BB614-39F4-42CD-85EE-C81F2214AE2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605E94-0510-4706-ADAD-D5DFCAC467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AE19BB-7F65-4426-8252-78FE66837D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263E82-516E-4F7C-84B9-ED16AC3C90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8A3805-8294-4075-A4D4-AB484FD8A0F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50328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56940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635160" y="4056840"/>
            <a:ext cx="291960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0800C50-F222-43F3-B397-27E6B6A08F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2FD1F-E377-40B1-8FF8-7B8C0761F5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38FA3D-E6E1-40E9-83E5-AA09D140A9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617198-366F-41D0-B6A2-B887BDAF0A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93CB69-795D-47E8-97EB-5CB9CB509A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BE6ED2-A49D-425B-8E06-9FD8691AD5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05684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7D4250-77F9-422B-AEBA-94A798FCB5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056840"/>
            <a:ext cx="9067680" cy="2089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BFF5E1-617F-4321-BE31-6F79C6C3E2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12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12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20A53B20-CF2C-432E-8469-E16021F98E8E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3815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4FBBBF7-C5EB-412C-B2F8-7E8AC4D78FBB}" type="slidenum">
              <a:rPr b="0" lang="en-US" sz="1400" spc="-1" strike="noStrike">
                <a:solidFill>
                  <a:srgbClr val="000000"/>
                </a:solidFill>
                <a:latin typeface="Times New Roman"/>
                <a:ea typeface="Microsoft YaHe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Text Box 1"/>
          <p:cNvSpPr/>
          <p:nvPr/>
        </p:nvSpPr>
        <p:spPr>
          <a:xfrm>
            <a:off x="1944720" y="3173400"/>
            <a:ext cx="5904000" cy="1676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hape Conventions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Distance &amp; Safety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Rectangle 1"/>
          <p:cNvSpPr/>
          <p:nvPr/>
        </p:nvSpPr>
        <p:spPr>
          <a:xfrm>
            <a:off x="1563840" y="2416320"/>
            <a:ext cx="1992240" cy="1973160"/>
          </a:xfrm>
          <a:prstGeom prst="rect">
            <a:avLst/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Text Box 2"/>
          <p:cNvSpPr/>
          <p:nvPr/>
        </p:nvSpPr>
        <p:spPr>
          <a:xfrm>
            <a:off x="69840" y="326880"/>
            <a:ext cx="96948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flat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Line 3"/>
          <p:cNvSpPr/>
          <p:nvPr/>
        </p:nvSpPr>
        <p:spPr>
          <a:xfrm>
            <a:off x="625320" y="2406600"/>
            <a:ext cx="4219560" cy="9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Text Box 4"/>
          <p:cNvSpPr/>
          <p:nvPr/>
        </p:nvSpPr>
        <p:spPr>
          <a:xfrm>
            <a:off x="4206960" y="2120760"/>
            <a:ext cx="37944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Oval 5"/>
          <p:cNvSpPr/>
          <p:nvPr/>
        </p:nvSpPr>
        <p:spPr>
          <a:xfrm flipV="1">
            <a:off x="507960" y="229068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Oval 6"/>
          <p:cNvSpPr/>
          <p:nvPr/>
        </p:nvSpPr>
        <p:spPr>
          <a:xfrm flipV="1">
            <a:off x="14461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Oval 7"/>
          <p:cNvSpPr/>
          <p:nvPr/>
        </p:nvSpPr>
        <p:spPr>
          <a:xfrm flipV="1">
            <a:off x="3557520" y="230040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Text Box 8"/>
          <p:cNvSpPr/>
          <p:nvPr/>
        </p:nvSpPr>
        <p:spPr>
          <a:xfrm>
            <a:off x="358920" y="19764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Line 9"/>
          <p:cNvSpPr/>
          <p:nvPr/>
        </p:nvSpPr>
        <p:spPr>
          <a:xfrm>
            <a:off x="625320" y="2647800"/>
            <a:ext cx="93852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Text Box 10"/>
          <p:cNvSpPr/>
          <p:nvPr/>
        </p:nvSpPr>
        <p:spPr>
          <a:xfrm>
            <a:off x="457200" y="4705200"/>
            <a:ext cx="5419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Text Box 11"/>
          <p:cNvSpPr/>
          <p:nvPr/>
        </p:nvSpPr>
        <p:spPr>
          <a:xfrm>
            <a:off x="8604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Text Box 12"/>
          <p:cNvSpPr/>
          <p:nvPr/>
        </p:nvSpPr>
        <p:spPr>
          <a:xfrm>
            <a:off x="1446120" y="2011320"/>
            <a:ext cx="555840" cy="555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3" name="Text Box 13"/>
          <p:cNvSpPr/>
          <p:nvPr/>
        </p:nvSpPr>
        <p:spPr>
          <a:xfrm>
            <a:off x="3108240" y="2028960"/>
            <a:ext cx="55584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Line 14"/>
          <p:cNvSpPr/>
          <p:nvPr/>
        </p:nvSpPr>
        <p:spPr>
          <a:xfrm>
            <a:off x="1563840" y="2647800"/>
            <a:ext cx="199224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Text Box 15"/>
          <p:cNvSpPr/>
          <p:nvPr/>
        </p:nvSpPr>
        <p:spPr>
          <a:xfrm>
            <a:off x="2179800" y="2647800"/>
            <a:ext cx="55548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Text Box 16"/>
          <p:cNvSpPr/>
          <p:nvPr/>
        </p:nvSpPr>
        <p:spPr>
          <a:xfrm>
            <a:off x="549360" y="3309840"/>
            <a:ext cx="1285920" cy="439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Text Box 17"/>
          <p:cNvSpPr/>
          <p:nvPr/>
        </p:nvSpPr>
        <p:spPr>
          <a:xfrm>
            <a:off x="3557520" y="3200400"/>
            <a:ext cx="1285920" cy="43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rm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8" name="Line 18"/>
          <p:cNvSpPr/>
          <p:nvPr/>
        </p:nvSpPr>
        <p:spPr>
          <a:xfrm flipH="1" flipV="1">
            <a:off x="728640" y="3654360"/>
            <a:ext cx="838080" cy="208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5920" bIns="-25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Line 19"/>
          <p:cNvSpPr/>
          <p:nvPr/>
        </p:nvSpPr>
        <p:spPr>
          <a:xfrm>
            <a:off x="3557520" y="3565440"/>
            <a:ext cx="924120" cy="180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Text Box 1"/>
          <p:cNvSpPr/>
          <p:nvPr/>
        </p:nvSpPr>
        <p:spPr>
          <a:xfrm>
            <a:off x="-92160" y="317520"/>
            <a:ext cx="10201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vex shape with curved surfaces, conventions for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Text Box 2"/>
          <p:cNvSpPr/>
          <p:nvPr/>
        </p:nvSpPr>
        <p:spPr>
          <a:xfrm>
            <a:off x="457200" y="4705200"/>
            <a:ext cx="541980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 = Infinity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0,        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Oval 3"/>
          <p:cNvSpPr/>
          <p:nvPr/>
        </p:nvSpPr>
        <p:spPr>
          <a:xfrm>
            <a:off x="1463760" y="1646280"/>
            <a:ext cx="2925720" cy="2925720"/>
          </a:xfrm>
          <a:prstGeom prst="ellipse">
            <a:avLst/>
          </a:prstGeom>
          <a:solidFill>
            <a:srgbClr val="729fcf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3" name="Line 4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Oval 5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5" name="Text Box 6"/>
          <p:cNvSpPr/>
          <p:nvPr/>
        </p:nvSpPr>
        <p:spPr>
          <a:xfrm>
            <a:off x="3102120" y="1279440"/>
            <a:ext cx="43308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Text Box 7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7" name="Line 8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Text Box 1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0" name="Text Box 2"/>
          <p:cNvSpPr/>
          <p:nvPr/>
        </p:nvSpPr>
        <p:spPr>
          <a:xfrm>
            <a:off x="407880" y="2031840"/>
            <a:ext cx="4897440" cy="1625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  (p1,v) = 0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1,v) = L,   (normal1,v) =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Oval 3"/>
          <p:cNvSpPr/>
          <p:nvPr/>
        </p:nvSpPr>
        <p:spPr>
          <a:xfrm flipV="1">
            <a:off x="2900520" y="155412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2" name="Text Box 4"/>
          <p:cNvSpPr/>
          <p:nvPr/>
        </p:nvSpPr>
        <p:spPr>
          <a:xfrm>
            <a:off x="3017880" y="1279440"/>
            <a:ext cx="43344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Text Box 5"/>
          <p:cNvSpPr/>
          <p:nvPr/>
        </p:nvSpPr>
        <p:spPr>
          <a:xfrm>
            <a:off x="4479840" y="1371600"/>
            <a:ext cx="295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Line 6"/>
          <p:cNvSpPr/>
          <p:nvPr/>
        </p:nvSpPr>
        <p:spPr>
          <a:xfrm flipV="1">
            <a:off x="2925720" y="820800"/>
            <a:ext cx="1800" cy="82872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AutoShape 7"/>
          <p:cNvSpPr/>
          <p:nvPr/>
        </p:nvSpPr>
        <p:spPr>
          <a:xfrm rot="10800000">
            <a:off x="1417320" y="-507960"/>
            <a:ext cx="3051000" cy="2859120"/>
          </a:xfrm>
          <a:custGeom>
            <a:avLst/>
            <a:gdLst>
              <a:gd name="textAreaLeft" fmla="*/ 0 w 3051000"/>
              <a:gd name="textAreaRight" fmla="*/ 3051360 w 3051000"/>
              <a:gd name="textAreaTop" fmla="*/ 0 h 2859120"/>
              <a:gd name="textAreaBottom" fmla="*/ 1039680 h 2859120"/>
            </a:gdLst>
            <a:ahLst/>
            <a:rect l="textAreaLeft" t="textAreaTop" r="textAreaRight" b="textAreaBottom"/>
            <a:pathLst>
              <a:path w="21600" h="21600">
                <a:moveTo>
                  <a:pt x="5215" y="10869"/>
                </a:moveTo>
                <a:cubicBezTo>
                  <a:pt x="5215" y="10846"/>
                  <a:pt x="5215" y="10823"/>
                  <a:pt x="5215" y="10800"/>
                </a:cubicBezTo>
                <a:cubicBezTo>
                  <a:pt x="5215" y="7715"/>
                  <a:pt x="7715" y="5215"/>
                  <a:pt x="10800" y="5215"/>
                </a:cubicBezTo>
                <a:cubicBezTo>
                  <a:pt x="13884" y="5215"/>
                  <a:pt x="16385" y="7715"/>
                  <a:pt x="16385" y="10800"/>
                </a:cubicBezTo>
                <a:cubicBezTo>
                  <a:pt x="16384" y="10823"/>
                  <a:pt x="16384" y="10846"/>
                  <a:pt x="16384" y="10869"/>
                </a:cubicBezTo>
                <a:lnTo>
                  <a:pt x="21599" y="10935"/>
                </a:lnTo>
                <a:cubicBezTo>
                  <a:pt x="21599" y="10890"/>
                  <a:pt x="21600" y="10845"/>
                  <a:pt x="21600" y="10800"/>
                </a:cubicBezTo>
                <a:cubicBezTo>
                  <a:pt x="21600" y="4835"/>
                  <a:pt x="16764" y="0"/>
                  <a:pt x="10800" y="0"/>
                </a:cubicBezTo>
                <a:cubicBezTo>
                  <a:pt x="4835" y="0"/>
                  <a:pt x="0" y="4835"/>
                  <a:pt x="0" y="10800"/>
                </a:cubicBezTo>
                <a:cubicBezTo>
                  <a:pt x="-1" y="10845"/>
                  <a:pt x="0" y="10890"/>
                  <a:pt x="0" y="10935"/>
                </a:cubicBezTo>
                <a:lnTo>
                  <a:pt x="5215" y="10869"/>
                </a:lnTo>
                <a:close/>
              </a:path>
            </a:pathLst>
          </a:cu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Line 8"/>
          <p:cNvSpPr/>
          <p:nvPr/>
        </p:nvSpPr>
        <p:spPr>
          <a:xfrm>
            <a:off x="1096920" y="1646280"/>
            <a:ext cx="3932280" cy="1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Text Box 9"/>
          <p:cNvSpPr/>
          <p:nvPr/>
        </p:nvSpPr>
        <p:spPr>
          <a:xfrm>
            <a:off x="3108240" y="822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Line 10"/>
          <p:cNvSpPr/>
          <p:nvPr/>
        </p:nvSpPr>
        <p:spPr>
          <a:xfrm>
            <a:off x="3176640" y="1736640"/>
            <a:ext cx="9381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Text Box 11"/>
          <p:cNvSpPr/>
          <p:nvPr/>
        </p:nvSpPr>
        <p:spPr>
          <a:xfrm>
            <a:off x="3475080" y="1736640"/>
            <a:ext cx="30636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Text Box 12"/>
          <p:cNvSpPr/>
          <p:nvPr/>
        </p:nvSpPr>
        <p:spPr>
          <a:xfrm>
            <a:off x="419040" y="209520"/>
            <a:ext cx="82216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Text Box 13"/>
          <p:cNvSpPr/>
          <p:nvPr/>
        </p:nvSpPr>
        <p:spPr>
          <a:xfrm>
            <a:off x="419040" y="209520"/>
            <a:ext cx="532944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curved surfaces,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Text Box 14"/>
          <p:cNvSpPr/>
          <p:nvPr/>
        </p:nvSpPr>
        <p:spPr>
          <a:xfrm>
            <a:off x="301680" y="3319560"/>
            <a:ext cx="77151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 with flat surfaces, 'scratch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AutoShape 15"/>
          <p:cNvSpPr/>
          <p:nvPr/>
        </p:nvSpPr>
        <p:spPr>
          <a:xfrm>
            <a:off x="731880" y="384012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Line 16"/>
          <p:cNvSpPr/>
          <p:nvPr/>
        </p:nvSpPr>
        <p:spPr>
          <a:xfrm flipV="1">
            <a:off x="177840" y="4583160"/>
            <a:ext cx="3565440" cy="30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16560" bIns="-165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Oval 17"/>
          <p:cNvSpPr/>
          <p:nvPr/>
        </p:nvSpPr>
        <p:spPr>
          <a:xfrm flipV="1">
            <a:off x="1573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Oval 18"/>
          <p:cNvSpPr/>
          <p:nvPr/>
        </p:nvSpPr>
        <p:spPr>
          <a:xfrm flipV="1">
            <a:off x="70488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Text Box 19"/>
          <p:cNvSpPr/>
          <p:nvPr/>
        </p:nvSpPr>
        <p:spPr>
          <a:xfrm>
            <a:off x="4025880" y="4556160"/>
            <a:ext cx="5484960" cy="2394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 : DistanceToIn  (p2,v)  = 0,  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2,v) = L2,  (normal1,v) &l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 : DistanceToIn  (p3,v)  = Infinity,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istanceToOut(p3,v) = 0,            (normal2,v) &gt; 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Line 20"/>
          <p:cNvSpPr/>
          <p:nvPr/>
        </p:nvSpPr>
        <p:spPr>
          <a:xfrm flipH="1">
            <a:off x="87480" y="5176800"/>
            <a:ext cx="620640" cy="1908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27720" bIns="-277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Oval 21"/>
          <p:cNvSpPr/>
          <p:nvPr/>
        </p:nvSpPr>
        <p:spPr>
          <a:xfrm flipV="1">
            <a:off x="2536920" y="449424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Line 22"/>
          <p:cNvSpPr/>
          <p:nvPr/>
        </p:nvSpPr>
        <p:spPr>
          <a:xfrm>
            <a:off x="2529000" y="5213520"/>
            <a:ext cx="731880" cy="1440"/>
          </a:xfrm>
          <a:prstGeom prst="line">
            <a:avLst/>
          </a:prstGeom>
          <a:ln w="18360">
            <a:solidFill>
              <a:srgbClr val="8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Line 23"/>
          <p:cNvSpPr/>
          <p:nvPr/>
        </p:nvSpPr>
        <p:spPr>
          <a:xfrm>
            <a:off x="182520" y="4754520"/>
            <a:ext cx="54936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2" name="Line 24"/>
          <p:cNvSpPr/>
          <p:nvPr/>
        </p:nvSpPr>
        <p:spPr>
          <a:xfrm>
            <a:off x="731880" y="4754520"/>
            <a:ext cx="1828800" cy="18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Text Box 25"/>
          <p:cNvSpPr/>
          <p:nvPr/>
        </p:nvSpPr>
        <p:spPr>
          <a:xfrm>
            <a:off x="365040" y="475452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Text Box 26"/>
          <p:cNvSpPr/>
          <p:nvPr/>
        </p:nvSpPr>
        <p:spPr>
          <a:xfrm>
            <a:off x="1463760" y="468324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5" name="Text Box 27"/>
          <p:cNvSpPr/>
          <p:nvPr/>
        </p:nvSpPr>
        <p:spPr>
          <a:xfrm>
            <a:off x="-6840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Text Box 28"/>
          <p:cNvSpPr/>
          <p:nvPr/>
        </p:nvSpPr>
        <p:spPr>
          <a:xfrm>
            <a:off x="704880" y="42642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Text Box 29"/>
          <p:cNvSpPr/>
          <p:nvPr/>
        </p:nvSpPr>
        <p:spPr>
          <a:xfrm>
            <a:off x="0" y="5322960"/>
            <a:ext cx="100332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Text Box 30"/>
          <p:cNvSpPr/>
          <p:nvPr/>
        </p:nvSpPr>
        <p:spPr>
          <a:xfrm>
            <a:off x="2468520" y="5394240"/>
            <a:ext cx="100332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800000"/>
                </a:solidFill>
                <a:latin typeface="Arial"/>
              </a:rPr>
              <a:t>normal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Text Box 31"/>
          <p:cNvSpPr/>
          <p:nvPr/>
        </p:nvSpPr>
        <p:spPr>
          <a:xfrm>
            <a:off x="2220840" y="420696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Text Box 32"/>
          <p:cNvSpPr/>
          <p:nvPr/>
        </p:nvSpPr>
        <p:spPr>
          <a:xfrm>
            <a:off x="3382920" y="4297320"/>
            <a:ext cx="295200" cy="438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Text Box 1"/>
          <p:cNvSpPr/>
          <p:nvPr/>
        </p:nvSpPr>
        <p:spPr>
          <a:xfrm>
            <a:off x="731880" y="209520"/>
            <a:ext cx="55785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Concave shapes , 'reentering' direction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Text Box 2"/>
          <p:cNvSpPr/>
          <p:nvPr/>
        </p:nvSpPr>
        <p:spPr>
          <a:xfrm>
            <a:off x="419040" y="209520"/>
            <a:ext cx="2667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62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2400" spc="-1" strike="noStrike">
                <a:solidFill>
                  <a:srgbClr val="008000"/>
                </a:solidFill>
                <a:latin typeface="Arial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AutoShape 3"/>
          <p:cNvSpPr/>
          <p:nvPr/>
        </p:nvSpPr>
        <p:spPr>
          <a:xfrm>
            <a:off x="822240" y="1006560"/>
            <a:ext cx="1828800" cy="2286000"/>
          </a:xfrm>
          <a:prstGeom prst="plus">
            <a:avLst>
              <a:gd name="adj" fmla="val 40486"/>
            </a:avLst>
          </a:prstGeom>
          <a:solidFill>
            <a:srgbClr val="729fcf"/>
          </a:solidFill>
          <a:ln w="9360">
            <a:solidFill>
              <a:srgbClr val="3465a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Oval 4"/>
          <p:cNvSpPr/>
          <p:nvPr/>
        </p:nvSpPr>
        <p:spPr>
          <a:xfrm flipV="1">
            <a:off x="1828800" y="914400"/>
            <a:ext cx="11736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Oval 5"/>
          <p:cNvSpPr/>
          <p:nvPr/>
        </p:nvSpPr>
        <p:spPr>
          <a:xfrm flipV="1">
            <a:off x="2193840" y="1620720"/>
            <a:ext cx="117720" cy="115920"/>
          </a:xfrm>
          <a:prstGeom prst="ellipse">
            <a:avLst/>
          </a:prstGeom>
          <a:solidFill>
            <a:srgbClr val="800000"/>
          </a:solidFill>
          <a:ln w="9360">
            <a:solidFill>
              <a:srgbClr val="3465a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35280" bIns="3528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Text Box 6"/>
          <p:cNvSpPr/>
          <p:nvPr/>
        </p:nvSpPr>
        <p:spPr>
          <a:xfrm>
            <a:off x="639720" y="4572000"/>
            <a:ext cx="4465800" cy="188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 : DistanceToIn(p1,v) = L1,     not Infinit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Text Box 7"/>
          <p:cNvSpPr/>
          <p:nvPr/>
        </p:nvSpPr>
        <p:spPr>
          <a:xfrm>
            <a:off x="1463760" y="6588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Text Box 8"/>
          <p:cNvSpPr/>
          <p:nvPr/>
        </p:nvSpPr>
        <p:spPr>
          <a:xfrm>
            <a:off x="2468520" y="1371600"/>
            <a:ext cx="433440" cy="345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p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Line 9"/>
          <p:cNvSpPr/>
          <p:nvPr/>
        </p:nvSpPr>
        <p:spPr>
          <a:xfrm>
            <a:off x="1897200" y="1006560"/>
            <a:ext cx="1395360" cy="25606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Text Box 10"/>
          <p:cNvSpPr/>
          <p:nvPr/>
        </p:nvSpPr>
        <p:spPr>
          <a:xfrm>
            <a:off x="3200400" y="3108240"/>
            <a:ext cx="295200" cy="346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60840" bIns="450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v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Text Box 1"/>
          <p:cNvSpPr/>
          <p:nvPr/>
        </p:nvSpPr>
        <p:spPr>
          <a:xfrm>
            <a:off x="1279440" y="9216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In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2" name=""/>
          <p:cNvGraphicFramePr/>
          <p:nvPr/>
        </p:nvGraphicFramePr>
        <p:xfrm>
          <a:off x="284040" y="822240"/>
          <a:ext cx="9598320" cy="5580000"/>
        </p:xfrm>
        <a:graphic>
          <a:graphicData uri="http://schemas.openxmlformats.org/drawingml/2006/table">
            <a:tbl>
              <a:tblPr/>
              <a:tblGrid>
                <a:gridCol w="2025720"/>
                <a:gridCol w="1773360"/>
                <a:gridCol w="1682640"/>
                <a:gridCol w="1897200"/>
                <a:gridCol w="2219400"/>
              </a:tblGrid>
              <a:tr h="76356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8431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8427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8748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 normal.dot(v) &gt;= 0,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enter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 'entering shape', normal.dot(v) &lt;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 for convex shapes or Distance to next Intersection for concave shapes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leaving shape', normal.dot(v) &gt;= 0 for convex shapes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7635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492120">
                <a:tc>
                  <a:txBody>
                    <a:bodyPr lIns="90000" rIns="90000" tIns="7452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1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1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3" name="Text Box 104"/>
          <p:cNvSpPr/>
          <p:nvPr/>
        </p:nvSpPr>
        <p:spPr>
          <a:xfrm>
            <a:off x="365040" y="549360"/>
            <a:ext cx="951084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In(p,v)   return the exact distance (double) to the surface of the shape  for given point p  and direction v.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DistanceToOut(p,v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5" name=""/>
          <p:cNvGraphicFramePr/>
          <p:nvPr/>
        </p:nvGraphicFramePr>
        <p:xfrm>
          <a:off x="209520" y="1090440"/>
          <a:ext cx="9874440" cy="6289920"/>
        </p:xfrm>
        <a:graphic>
          <a:graphicData uri="http://schemas.openxmlformats.org/drawingml/2006/table">
            <a:tbl>
              <a:tblPr/>
              <a:tblGrid>
                <a:gridCol w="2327400"/>
                <a:gridCol w="1711080"/>
                <a:gridCol w="1882800"/>
                <a:gridCol w="1973520"/>
                <a:gridCol w="197964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o 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, “wrong result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finity, as default valu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tersection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etween shape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nd ray(p+v*t)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4792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,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, normal.dot(v) &lt; 0 for convex shaper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 shape' 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 shape'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, if 'leaving' shape, normal.dot(v) &gt;=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To next boundary,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f 'entering' shape ,normal.dot(v) &lt; 0 for convex shap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9226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ndefined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70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f Distance(p,v)&lt;halfToleran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Distance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6" name="Text Box 104"/>
          <p:cNvSpPr/>
          <p:nvPr/>
        </p:nvSpPr>
        <p:spPr>
          <a:xfrm>
            <a:off x="123840" y="893880"/>
            <a:ext cx="965988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5000" bIns="45000" anchor="t">
            <a:no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DistanceToOut(p,v)   return the exact distance (double) to the surface of the shape  for given point p  and direction v.  Normal is pointing outwards shap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Out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68" name=""/>
          <p:cNvGraphicFramePr/>
          <p:nvPr/>
        </p:nvGraphicFramePr>
        <p:xfrm>
          <a:off x="309600" y="1741320"/>
          <a:ext cx="9491760" cy="394668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9226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01916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0825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92232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69" name="Text Box 72"/>
          <p:cNvSpPr/>
          <p:nvPr/>
        </p:nvSpPr>
        <p:spPr>
          <a:xfrm>
            <a:off x="182520" y="758880"/>
            <a:ext cx="9236160" cy="252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Outside estimates isotropic distance to the surface of the shape from  Outside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Text Box 1"/>
          <p:cNvSpPr/>
          <p:nvPr/>
        </p:nvSpPr>
        <p:spPr>
          <a:xfrm>
            <a:off x="1279440" y="328680"/>
            <a:ext cx="8412120" cy="495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9840" bIns="45000" anchor="t">
            <a:normAutofit fontScale="96000"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2800" spc="-1" strike="noStrike">
                <a:solidFill>
                  <a:srgbClr val="009999"/>
                </a:solidFill>
                <a:latin typeface="Arial"/>
              </a:rPr>
              <a:t>Conventions. SafetyFromInside(p) 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71" name=""/>
          <p:cNvGraphicFramePr/>
          <p:nvPr/>
        </p:nvGraphicFramePr>
        <p:xfrm>
          <a:off x="317520" y="1514520"/>
          <a:ext cx="9491760" cy="5756400"/>
        </p:xfrm>
        <a:graphic>
          <a:graphicData uri="http://schemas.openxmlformats.org/drawingml/2006/table">
            <a:tbl>
              <a:tblPr/>
              <a:tblGrid>
                <a:gridCol w="2236680"/>
                <a:gridCol w="1557360"/>
                <a:gridCol w="1898640"/>
                <a:gridCol w="1897200"/>
                <a:gridCol w="1901880"/>
              </a:tblGrid>
              <a:tr h="44928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Geant4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olids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cGeom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OOT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33a3a3"/>
                    </a:solidFill>
                  </a:tcPr>
                </a:tc>
              </a:tr>
              <a:tr h="178920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In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afety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  <a:tr h="189864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 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n Surfac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ccffff"/>
                    </a:solidFill>
                  </a:tcPr>
                </a:tc>
              </a:tr>
              <a:tr h="1619280">
                <a:tc>
                  <a:txBody>
                    <a:bodyPr lIns="90000" rIns="90000" tIns="7704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Point p is</a:t>
                      </a:r>
                      <a:r>
                        <a:rPr b="1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 Outside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“</a:t>
                      </a:r>
                      <a:r>
                        <a:rPr b="0" lang="en-US" sz="12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Wrong side”</a:t>
                      </a:r>
                      <a:endParaRPr b="0" lang="en-US" sz="12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57200"/>
                          <a:tab algn="l" pos="914400"/>
                          <a:tab algn="l" pos="1371600"/>
                          <a:tab algn="l" pos="1828800"/>
                          <a:tab algn="l" pos="2286000"/>
                          <a:tab algn="l" pos="2743200"/>
                          <a:tab algn="l" pos="3200400"/>
                          <a:tab algn="l" pos="3657600"/>
                          <a:tab algn="l" pos="4114800"/>
                          <a:tab algn="l" pos="4572000"/>
                          <a:tab algn="l" pos="5029200"/>
                          <a:tab algn="l" pos="5486400"/>
                          <a:tab algn="l" pos="5943600"/>
                          <a:tab algn="l" pos="6400800"/>
                          <a:tab algn="l" pos="6858000"/>
                          <a:tab algn="l" pos="7315200"/>
                          <a:tab algn="l" pos="7772400"/>
                          <a:tab algn="l" pos="8229600"/>
                          <a:tab algn="l" pos="8686800"/>
                          <a:tab algn="l" pos="9144000"/>
                          <a:tab algn="l" pos="9601200"/>
                          <a:tab algn="l" pos="10058400"/>
                          <a:tab algn="l" pos="105156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egative number or 0</a:t>
                      </a:r>
                      <a:endParaRPr b="0" lang="en-US" sz="1800" spc="-1" strike="noStrike">
                        <a:solidFill>
                          <a:srgbClr val="ffffff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000000"/>
                      </a:solidFill>
                    </a:lnL>
                    <a:lnR w="720">
                      <a:solidFill>
                        <a:srgbClr val="000000"/>
                      </a:solidFill>
                    </a:lnR>
                    <a:lnT w="720">
                      <a:solidFill>
                        <a:srgbClr val="000000"/>
                      </a:solidFill>
                    </a:lnT>
                    <a:lnB w="720">
                      <a:solidFill>
                        <a:srgbClr val="000000"/>
                      </a:solidFill>
                    </a:lnB>
                    <a:solidFill>
                      <a:srgbClr val="47b8b8"/>
                    </a:solidFill>
                  </a:tcPr>
                </a:tc>
              </a:tr>
            </a:tbl>
          </a:graphicData>
        </a:graphic>
      </p:graphicFrame>
      <p:sp>
        <p:nvSpPr>
          <p:cNvPr id="172" name="Text Box 72"/>
          <p:cNvSpPr/>
          <p:nvPr/>
        </p:nvSpPr>
        <p:spPr>
          <a:xfrm>
            <a:off x="274680" y="824040"/>
            <a:ext cx="9236160" cy="41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normAutofit/>
          </a:bodyPr>
          <a:p>
            <a:pPr>
              <a:lnSpc>
                <a:spcPts val="1261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SaferyFromInside(p) estimates isotropic distance to the surface of the shape from Inside point p. This must</a:t>
            </a:r>
            <a:r>
              <a:rPr b="1" i="1" lang="en-US" sz="11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1100" spc="-1" strike="noStrike">
                <a:solidFill>
                  <a:srgbClr val="222222"/>
                </a:solidFill>
                <a:latin typeface="Arial"/>
              </a:rPr>
              <a:t>be either accurate or an underestimate.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25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5-06-25T08:16:40Z</dcterms:created>
  <dc:creator>Tatiana Nikitina</dc:creator>
  <dc:description/>
  <cp:keywords/>
  <dc:language>en-US</dc:language>
  <cp:lastModifiedBy>Gabriele Cosmo</cp:lastModifiedBy>
  <dcterms:modified xsi:type="dcterms:W3CDTF">2017-05-15T13:35:51Z</dcterms:modified>
  <cp:revision>31</cp:revision>
  <dc:subject/>
  <dc:title>PowerPoint Presentation</dc:title>
</cp:coreProperties>
</file>